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B63D-FB22-4CFE-AA84-14780619F2B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8AC5-5684-4CF3-9674-ACE87148250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FF77-9BEE-4226-9EDD-14D5F0F21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C788-DF46-4CD7-AF9F-E7465258C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BA97-526E-4A6F-AEFD-ACFB4CFB7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0EE7-822D-43D9-AF7A-38466A851B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1340-63E4-4B1F-907C-DF43DCD4A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7D03-7578-4B02-B77E-1110E9D54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667C-737A-43AD-A41E-3520D50FE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F3FC-8ADF-4B94-AC90-5E1832EE6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4BE8-7B8C-45A5-8A3D-48C038A0E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4D7D-66EC-45B2-B84B-A8C183877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26F4-6BB8-4C94-B1B8-EA02AF7AF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DC6F-8462-4D25-B8D8-0BB270D22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713880"/>
            <a:chOff x="0" y="0"/>
            <a:chExt cx="9144000" cy="713880"/>
          </a:xfrm>
        </p:grpSpPr>
        <p:pic>
          <p:nvPicPr>
            <p:cNvPr id="1" name="Picture 10" descr="bgmainBlue"/>
            <p:cNvPicPr/>
            <p:nvPr/>
          </p:nvPicPr>
          <p:blipFill>
            <a:blip r:embed="rId3"/>
            <a:stretch/>
          </p:blipFill>
          <p:spPr>
            <a:xfrm>
              <a:off x="0" y="475920"/>
              <a:ext cx="914400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Group 9"/>
            <p:cNvGrpSpPr/>
            <p:nvPr/>
          </p:nvGrpSpPr>
          <p:grpSpPr>
            <a:xfrm>
              <a:off x="468360" y="0"/>
              <a:ext cx="4619520" cy="713880"/>
              <a:chOff x="468360" y="0"/>
              <a:chExt cx="4619520" cy="713880"/>
            </a:xfrm>
          </p:grpSpPr>
          <p:pic>
            <p:nvPicPr>
              <p:cNvPr id="3" name="Picture 7" descr="head1"/>
              <p:cNvPicPr/>
              <p:nvPr/>
            </p:nvPicPr>
            <p:blipFill>
              <a:blip r:embed="rId4"/>
              <a:stretch/>
            </p:blipFill>
            <p:spPr>
              <a:xfrm>
                <a:off x="468360" y="0"/>
                <a:ext cx="4619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Picture 8" descr="nav_r1_c1"/>
              <p:cNvPicPr/>
              <p:nvPr/>
            </p:nvPicPr>
            <p:blipFill>
              <a:blip r:embed="rId5"/>
              <a:stretch/>
            </p:blipFill>
            <p:spPr>
              <a:xfrm>
                <a:off x="468360" y="428400"/>
                <a:ext cx="476280" cy="28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33339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FD4C-79FE-4F9C-8166-5BE8BC4A042D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defco@asoo.hr" TargetMode="External"/><Relationship Id="rId2" Type="http://schemas.openxmlformats.org/officeDocument/2006/relationships/hyperlink" Target="mailto:infoipa@mzos.hr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2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D8A0-A76C-4163-8BA8-3BDE87CCD8FA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1280" y="1107720"/>
            <a:ext cx="844704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Grant-s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333399"/>
                </a:solidFill>
                <a:latin typeface="Arial"/>
              </a:rPr>
              <a:t>Integracija skupina u nepovoljnom položaju u redoviti obrazovni su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Ministarstvo znanosti, obrazovanja i šp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Mogući prijav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0652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333399"/>
                </a:solidFill>
                <a:uFillTx/>
                <a:latin typeface="Arial"/>
              </a:rPr>
              <a:t>Lot 1: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dječji vrtići, osnovne škole i srednje škole, visoka učilišta, udru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studenata iz skupina u nepovoljnom položaju, jedinice lokalne uprave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egionalne samouprave, međunarodne organizacije, centri 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brazovanje učenika s teškoćama, organizacije koje imaju mandat 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d u području ovog lota, udruge čije su aktivnosti vezane uz područ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vog lota, znanstveni instit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Lot 2: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dječji vrtići, osnovne škole, srednje škole, visoka učilišta, jedi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lokalne uprave i regionalne samouprave, međunarodne organizaci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udruge, profesionalna udruženja stručnjaka aktivnih u područ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brazovanja i društveno korisnog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Lot 3: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dječji vrtići, osnovne škole, srednje škole, visoka učilišta, centri 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brazovanje učenika s teškoćama, međunarodne organizacije, udruge čije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aktivnosti vezane uz područje ove grant-sheme, znanstveni instit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4880" y="64116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Uvjet partner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9360" y="2030040"/>
            <a:ext cx="783108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Za sva tri </a:t>
            </a:r>
            <a:r>
              <a:rPr b="1" i="1" lang="hr-HR" sz="2000" spc="-1" strike="noStrike">
                <a:solidFill>
                  <a:srgbClr val="333399"/>
                </a:solidFill>
                <a:latin typeface="Arial"/>
              </a:rPr>
              <a:t>lot-a</a:t>
            </a: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 vrijedi sljedeć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koliko prijavitelj nije obrazovna institucija, studentska udruga, odnosno tijelo lokalne ili regionalne vlasti, projekt mora imati obrazovne institucije ili tijela regionalne, odnosno lokalne vlasti kao partn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Mogući partn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Iste institucije kao i prijavitelj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druge vezane uz osobe s teškoćama, uključujući i studentske udruge, udruge koje se bave područjima multikulturalizma, obrazovanja, ljudskih prava i aktivnoga građanstv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ružatelji socijalnih uslu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druge mladi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oduzeć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zadru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stale privatne i javne institucije koje se bave pitanjima obrazovanja i/ili pitanjima skupina u nepovoljnom polož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6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Moguće aktivnosti projekata za LOT 1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25680"/>
            <a:ext cx="834876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Izrada i objavljivanje pedagoške literature i materija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romicanje rada osobnih asistenata za osobe s invaliditet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Izgradnja partnerstva između škola i pružatelja socijalnih usluga u  zajednici (npr. rad centara za dnevnu njegu, rad ureda (na visokim učilištima) za osobe s invaliditetom i osobe koje imaju poteškoće s učenjem) kako bi se osiguralo pružanje potrebne pomoći djeci/učenicima/studentim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rilagodba nastavnih materijala (materijali na Brailleovom pismu, uvođenje glasovne literature i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romocija, razvoj i provođenje tečajeva e-uč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Nabava specijalizirane opreme (tipkovnice, kompjuteri, softveri) i namještaja te manje građevinske intervencije (npr. opremanje zgrada napravama za vizualno/zvučno upozorenje itd). (do </a:t>
            </a: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18 %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ukupnih troškova projek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lakšavanje pristupa odgojno-obrazovnim institucijama (organiziranje prijevoza za djecu/učenike/studente s teškoća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rganizacija izvanškolskih aktivnosti, ljetnih kampova u svrhu jačanja socijalne uključ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6040" y="425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Moguće aktivnosti projekata za LOT 1 (b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14360" y="1512360"/>
            <a:ext cx="822960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Razvoj, implementacija i unapređenje usluga koje djeci/učenicima/studentima s privremenim teškoćama omogućavaju sudjelovanje u nast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Aktivnosti koje promoviraju poboljšanje kvalitete poučavanja i stjecanja vještina u posebnim odgojno-obrazovnim ustanov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Aktivnosti koje promoviraju prijelaz iz posebnih odgojno-obrazovnih ustanova u redovne vrtiće/šk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Aktivnosti koje promoviraju/omogućuju prijelaz sa obrazovanja organiziranog kod kuće u posebne odgojno-obrazovne ustan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rganizacija seminara i konferencija - sudjelovanje na nacionalnim i međunarodnim konferencijama i studijskim posje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Stručno usavršavanje nastavnika, stručnih suradnika i ostalih zaposlenika u odgojno-obrazovnim ustanovama koji rade s osobama s trajnim ili privremenim teškoć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F07E-6A20-4669-B3B6-CCF4C4686C1E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1520" y="232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Moguće aktivnosti projekata za LOT 1 (c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34880" y="125712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Jačanje kapaciteta nastavnika, stručnih suradnika i zaposlenika u školama za uvođenje i provedbu individualiziranog odgojno-obrazovnog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Kreiranje i unapređivanje programa za stručno usavršavanje nastavnika, bilo tijekom studija (inicijalno obrazovanje) ili nakon njega (stručno usavršava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rovedba programa usavršavanja nastavnika (bilo tijekom inicijalnog obrazovanja ili tijekom rada kroz stručna usavršava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spostavljanje suradnje između odgojno-obrazovnih ustanova i ostalih dionika u zajednici (centara za socijalnu skrb, obiteljskih centara is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Izgradnja kapaciteta i jačanje suradnje strukovnih udruga socijalnih radnika i socijalnih pedag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stale aktivnosti potrebne za snažnije uključivanje djece/učenika/studenata s teškoćama u redovne programe obrazovanja u vrtićima, školama, odnosno na visokim učiliš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0972-1539-4514-B7A0-08CD6E73581A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Moguće aktivnosti projekata za LOT 2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Aktivnosti s ciljem većeg uključivanja romske djece u vrtiće i osnovne škole (kampanje za senzibiliziranje javnosti, suradnja s roditeljima, društveno-koristan rad u romskim naseljima i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rganizacija izvannastavnih aktivnosti u osnovnim školama kao oblik dodatne pomoći učenicima romske manjine u učenju, pisanju zadaće, kao i u učenju jezika, stjecanju komunikacijskih i socijalnih vješ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rganizacija ljetnih kampova i izvanškolskih aktivnosti u svrhu jačanja socijalne uključ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Aktivnosti s ciljem promicanja veće uključenosti romske djece u srednjoškolsko i visoko obraz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Aktivnosti s ciljem promicanja, razvoja nastavnih metoda i materijala za uvođenje multikulturalne dimenzije u nast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rganizacija seminara i konferencija - sudjelovanje na nacionalnim i međunarodnim konferencijama i studijskim posje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2320"/>
            <a:ext cx="82296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Moguće aktivnosti projekata za LOT 2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0652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Stručno usavršavanje nastavnika, stručnih suradnika i ostalih zaposlenika u odgojno-obrazovnim ustanovama u radu s  nacionalnim manji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Stručno usavršavanje nastavnika, stručnih suradnika i ostalih zaposlenika u odgojno-obrazovnim ustanovama koji rade u multikulturalnim sredinama na uvođenju nastavnih metoda koje promiču multikulturalne vrijednosti, ljudska prava i aktivno građan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Kreiranje i unapređivanje programa za stručno usavršavanje nastavnika, bilo tijekom studija (inicijalno obrazovanje) ili nakon njega (stručno usavršavanje), za multikulturaliz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spostavljanje suradnje između odgojno-obrazovnih ustanova i ostalih dionika u zajednici (centara za socijalnu skrb, obiteljskih centara is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jačanje kapaciteta i suradnje strukovnih udruga socijalnih radnika i socijalnih pedag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Nabava specijalizirane opreme (do </a:t>
            </a: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18 %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ukupnih troškova projek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3488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Moguće aktivnosti projekata za LOT 3</a:t>
            </a: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 sklopu ovoga Lot-a mogu se financirati aktivnosti koje nisu navedene u sklopu Lot-a 1 i Lot-a 2, a koje podupiru različite vrste aktivnosti potrebnih za postizanje socijalne uključ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Aktivnosti vezane uz istraživanja i analize, a vezano za područje socijalne uključ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1188-3C3D-403A-A197-74399B91871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2CBD-5DCA-4634-909F-4863CB876C8F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1360"/>
            <a:ext cx="802656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Vaši projekti (rokovi, trajanje, financijski izno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360" y="187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Ukupni iznos grant sheme(€): 4,03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bjava natječaja: 10. rujna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ok za podnošenje prijava: 14. studenoga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Trajanje pojedinih projekata: 8 – 18 mjes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Financijske alokacije za pojedine projekte (grant contrac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lot 1: 50 000 – 25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lot 2 i lot 3: 50 000 – 150 000 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3656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Što je grant sh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Direktno financiranje </a:t>
            </a:r>
            <a:r>
              <a:rPr b="0" lang="hr-HR" sz="2000" spc="-1" strike="noStrike" u="sng">
                <a:solidFill>
                  <a:srgbClr val="333399"/>
                </a:solidFill>
                <a:uFillTx/>
                <a:latin typeface="Arial"/>
              </a:rPr>
              <a:t>neprofitne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aktivnosti krajnjeg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Na zadanu temu iz natječaja potencijalni prijavitelji razvijaju projektni prijed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Financiranje projektnih prijedloga doprinosi općem interesu te promiče određenu politiku iz pravne stečevine EU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Krajnji korisnik uvijek sufinancira projek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(za ovu grant-shemu=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333399"/>
                </a:solidFill>
                <a:uFillTx/>
                <a:latin typeface="Arial"/>
              </a:rPr>
              <a:t>Upute za prijavitelje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- www.asoo.hr/def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DC71-B7A6-4D52-A657-3AD0DC327936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spored info-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333399"/>
                </a:solidFill>
                <a:uFillTx/>
                <a:latin typeface="Arial"/>
              </a:rPr>
              <a:t>Mjesta i datumi održavanja Info dana</a:t>
            </a:r>
            <a:r>
              <a:rPr b="0" lang="hr-HR" sz="1800" spc="-1" strike="noStrike" u="sng">
                <a:solidFill>
                  <a:srgbClr val="333399"/>
                </a:solidFill>
                <a:uFillTx/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Šibenik - 3. i 4. listopada 20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Sisak - 5. i 6. listopada 20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Vukovar – 10. i 11. listopada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Slavonski Brod – 13. i 14. listopada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Čakovec – 17. i 18. listopada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Split – 20. i 21. listopada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Zagreb – 24. i 25. listopada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Pula – 27. i 28. listopada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5D2F-8F73-478D-9ABF-B11B06B0EA0C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560" y="867960"/>
            <a:ext cx="77724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820800" y="2789280"/>
            <a:ext cx="1360440" cy="1369800"/>
          </a:xfrm>
          <a:custGeom>
            <a:avLst/>
            <a:gdLst>
              <a:gd name="textAreaLeft" fmla="*/ 66240 w 1360440"/>
              <a:gd name="textAreaRight" fmla="*/ 1294200 w 1360440"/>
              <a:gd name="textAreaTop" fmla="*/ 66240 h 1369800"/>
              <a:gd name="textAreaBottom" fmla="*/ 1303560 h 1369800"/>
            </a:gdLst>
            <a:ahLst/>
            <a:rect l="textAreaLeft" t="textAreaTop" r="textAreaRight" b="textAreaBottom"/>
            <a:pathLst>
              <a:path w="21600" h="21749">
                <a:moveTo>
                  <a:pt x="3600" y="0"/>
                </a:moveTo>
                <a:arcTo wR="3600" hR="3600" stAng="16200000" swAng="-5400000"/>
                <a:lnTo>
                  <a:pt x="0" y="18149"/>
                </a:lnTo>
                <a:arcTo wR="3600" hR="3600" stAng="10800000" swAng="-5400000"/>
                <a:lnTo>
                  <a:pt x="18000" y="21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ahoma"/>
              </a:rPr>
              <a:t>VAŠ PROJEK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973240" y="1839960"/>
            <a:ext cx="1735200" cy="136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Razvoj vješti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nastavnika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stručnih suradnika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zaposlenik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030480" y="3429000"/>
            <a:ext cx="1541520" cy="1155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Poboljšanj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uvjeta učenja i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podučavanj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opremanj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2763720" y="4984920"/>
            <a:ext cx="2170080" cy="1164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Stvaranje i proširivanj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Partnerstava (odgojno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obrazovne ustanove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udruge, lokal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ahoma"/>
              </a:rPr>
              <a:t>zajednica itd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510160" y="1692360"/>
            <a:ext cx="2938680" cy="61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Trening za stručne suradnike i nastavnik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o novim tehnologijama, sredstvim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i materijalima podučavanj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5521320" y="2468520"/>
            <a:ext cx="2948040" cy="673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Studijsko putovanje kao primj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dobre prakse - kako primijeniti viđeno i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naučen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5521320" y="3611520"/>
            <a:ext cx="2944800" cy="77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Nabava specifične računalne oprem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(npr. softvera, tipkovnica) i didaktički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materijala (npr. literatura na Brailleovo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pismu, glasovna literatur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516640" y="4826160"/>
            <a:ext cx="2979720" cy="722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Informiranje i senzibiliziranje javnosti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u suradnji s udrugama, roditeljima it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5545080" y="5805360"/>
            <a:ext cx="2987640" cy="606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Razmjena iskustava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diseminacija dobre prakse između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odgojno- obrazovnih ustanova itd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12"/>
          <p:cNvSpPr/>
          <p:nvPr/>
        </p:nvSpPr>
        <p:spPr>
          <a:xfrm flipV="1">
            <a:off x="2251080" y="2525400"/>
            <a:ext cx="685800" cy="90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2239920" y="3760920"/>
            <a:ext cx="766800" cy="18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14"/>
          <p:cNvSpPr/>
          <p:nvPr/>
        </p:nvSpPr>
        <p:spPr>
          <a:xfrm flipV="1">
            <a:off x="4708440" y="2011320"/>
            <a:ext cx="76680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4710240" y="2527200"/>
            <a:ext cx="765000" cy="3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2286000" y="3589200"/>
            <a:ext cx="696960" cy="44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18"/>
          <p:cNvSpPr/>
          <p:nvPr/>
        </p:nvSpPr>
        <p:spPr>
          <a:xfrm flipV="1">
            <a:off x="4572000" y="5074920"/>
            <a:ext cx="90324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4572000" y="5543640"/>
            <a:ext cx="982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708440" y="4057560"/>
            <a:ext cx="7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E0BC-EF5A-4E68-9067-C611F30E9D92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9871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djel za financiranje i ugovaranje EU programa</a:t>
            </a: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 (ASOO DEFCO) unutar Agencije za strukovno obrazovanje i obrazovanje odrasl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E-mail: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fco@asoo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Ministarstvo znanosti, obrazovanja i š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E-mail: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foipa@mzos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572D-C07C-4B2D-8E83-3660B4E1C754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2640" y="100188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ntegracija skupina u nepovoljnom položaju u redoviti obrazovni su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Skupine u nepovoljnom položaju u kontekstu ove grant-she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Djeca/učenici/studenti s teškoć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Djeca/učenici/studenti kojima je potrebna privremena stručna i savjetodavna pomo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ripadnici romske nacionalne manj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ripadnici ostalih nacionalnih manj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D450-B7C0-48B2-B537-94437C621DD8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6844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LOT 1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jeca/učenici/studenti s teškoćama, te oni kojima je potrebna privremena stručna pomo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60200"/>
            <a:ext cx="77724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Nedostatak potpore društva u svakodnevnom životu - socijalna isključeno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potreba za informiranjem, senzibiliziranjem šire javnos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potreba za jačanjem partnerstva i suradnje različitih instituci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Stjecanje kvalifikacija za kojima tržište rada nema potrebe, neosuvremenjeni progra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otreba za dodatnim usavršavanjem nastavnika; pomoć u nastav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Vrtići, škole, visoka učilišta nedovoljno opremlje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LOT 2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Romi,  nacionalne manj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2692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remala zastupljenost romske djece na svim razinama obraz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otreba za uključivanjem u obrazovanje u što ranijoj dobi (programi predškolskog obrazovanja, programi pripreme za polazak u ško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oticanje uključivanja djece školskih obveznika u redovno obrazovanje te  na završetak obrazov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rganiziranje izvannastavnih akti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potreba za suradnicima-pomagačima u nastavi (zbog nedovoljnog poznavanje hrv. jezika i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ključivanje mladeži i odraslih u nastavak obrazovnog procesa, u skladu s principom cjeloživotnog uč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otreba za dodatnim promicanjem ljudskih prava, multikulturalizma kako bi se olakšala socijalna uključenost svih nacionalnih manj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Važni dok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333399"/>
                </a:solidFill>
                <a:latin typeface="Arial"/>
              </a:rPr>
              <a:t>Operativni program </a:t>
            </a:r>
            <a:r>
              <a:rPr b="0" i="1" lang="vi-VN" sz="1800" spc="-1" strike="noStrike">
                <a:solidFill>
                  <a:srgbClr val="333399"/>
                </a:solidFill>
                <a:latin typeface="Arial"/>
              </a:rPr>
              <a:t>Razvoj ljudskih potencijala za razdoblje</a:t>
            </a:r>
            <a:r>
              <a:rPr b="0" lang="vi-VN" sz="1800" spc="-1" strike="noStrike">
                <a:solidFill>
                  <a:srgbClr val="333399"/>
                </a:solidFill>
                <a:latin typeface="Arial"/>
              </a:rPr>
              <a:t> 2007-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Zakon o odgoju i obrazovanju u osnovnoj i srednjoj ško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Zakon o strukovnom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cionalni okvirni kurikulum za predškolski odgoj i obrazovanje te opć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bvezno srednjoškolsko obrazovan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Hrvatski kvalifikacijski okvir- uvod u kvalifik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Zakonodavstvo visokog obrazovanja- Bolonjski 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cionalna strategija izjednačavanja mogućnosti za osobe s invaliditetom 2007.-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Konvencija UN-a o pravima osoba s invalidit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acionalni program za R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kcijski plan Desetljeća za uključivanje Roma 2005.-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Vaši projekti u okviru ove grant-s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4476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rojekti trebaju biti usklađeni s ciljevima navedenima u Uputama za prijavite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rovedba projekata treba doprinijeti ostvarenju indikatora navedenih u </a:t>
            </a: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Uputama za prijavitelje,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a koji su</a:t>
            </a: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 skladu sa Operativnim programom </a:t>
            </a: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Razvoj ljudskih potencijala (Prioritet 2,mjera 2.2)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oj obrazovnih institucija na lokalnoj/županijskoj/državnoj razini uključenih u razvoj obrazovnih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oj institucija koje su primile bilo kakvu opremu vezanu uz djecu/učenike/studente s teškoć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oj razvijenih obrazovnih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broj osoba kojima je pružena podrška u okviru provedbe darovnice  (izvijestiti po spol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051760" y="6458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19C9-A40F-476B-966F-5B49F97C8B5A}" type="slidenum">
              <a:rPr b="1" lang="hr-HR" sz="1000" spc="-1" strike="noStrike">
                <a:solidFill>
                  <a:srgbClr val="333399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96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Cilj , ciljne skupine i struktura natječ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1360" y="1275840"/>
            <a:ext cx="8702640" cy="50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333399"/>
                </a:solidFill>
                <a:uFillTx/>
                <a:latin typeface="Arial"/>
              </a:rPr>
              <a:t>Cil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Promicanje ravnopravnoga pristupa obrazovanju za skupine u nepovoljnom položaju kroz promicanje pružanja potrebnih usluga u Republici Hrvatsko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pružanje potpore ustanovama formalnog obrazovanja kako bi se povećalo pristupanje i završavanje (stjecanje kvalifikacije) određene razine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poboljšanje kvalitete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jačanje socijalne uključenosti u obrazov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333399"/>
                </a:solidFill>
                <a:uFillTx/>
                <a:latin typeface="Arial"/>
              </a:rPr>
              <a:t>Ciljne skupine: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djeca/učenici/studenti u nepovoljnom položaju; nastavno osoblje i stručni suradnici, studenti socijalnog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333399"/>
                </a:solidFill>
                <a:uFillTx/>
                <a:latin typeface="Arial"/>
              </a:rPr>
              <a:t>Strukt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Lot 1: poboljšanje uključenosti djece/učenika/studenata s teškoćama, kao i onih kojima je potrebna privremena stručna i savjetodavna pomoć te jačanje kapaciteta obrazovnih ustan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Lot 2: Potpora Romima i drugim nacionalnim manjinama u obrazovanju te jačanje kapaciteta ustan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Lot 3: inovativni i istraživački projekti iz područja socijalne uključenosti u obrazov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Financijska alo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kupna sredstva: 4.038.0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Za lot 1: 2 240 000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Za lot 2: 1 380 000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Za lot 3: 418 000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Veličina projek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lot 1: 50 000 – 250 000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lot 2 i lot 3: 50 000 – 150 000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Maksimalni udio financiranja projekta iz granta iznosi 95% od ukupnih prihvatljivih troškova projekta, a minimalno 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07:55:20Z</dcterms:created>
  <dc:creator>Ivana Fain</dc:creator>
  <dc:description/>
  <dc:language>en-US</dc:language>
  <cp:lastModifiedBy>jmajsec</cp:lastModifiedBy>
  <dcterms:modified xsi:type="dcterms:W3CDTF">2011-10-05T09:41:14Z</dcterms:modified>
  <cp:revision>283</cp:revision>
  <dc:subject/>
  <dc:title>Slide 1</dc:title>
</cp:coreProperties>
</file>