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76B8-9DFD-48BB-9952-D41E9A574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39CE-0385-4599-B932-3E1116915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F349-F833-4E15-9EA6-CB0002D30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348C-9CFF-4CEA-BE1C-717A6DBBA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761C7-1D2B-42FF-8737-8CE9AD36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3326D-B624-49F8-9509-E35F42CC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F7258-CA87-41D3-8A7A-FE372A73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86407-878C-4A88-9FDD-39F84017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F9DA7-7408-407F-88B7-F4D15265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3A930-4CFD-4083-BED7-B72C4568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A267E-1A39-4048-8D91-650EF33E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5C3E-3F6C-4666-8CCE-514CE94A5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6EA21-C62C-4C4D-B33C-71E5E56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28F59-A517-466F-AE4C-10CBD5E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10B21-B085-4186-AFFD-EA7BCCCB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A4EE5-BAA4-481D-A218-4EA0CA34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BC323-68DE-4813-9BA3-1596AE40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EDB9-BAF7-492E-A979-57BE3BD71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6697-2BA1-42C3-8899-5B3A72A60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3716-5049-46E8-848A-EB903F361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53ED-7683-4480-976B-AAD09B5A6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5119-4BA3-4A65-B143-5F85BCDFA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C625-56A8-466B-870C-EAD0B10E0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E248-476E-49E5-841E-C451CBE0E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BAB8-9F54-43CD-9ACC-5802D46AC82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40" name="Date Placeholder 3"/>
          <p:cNvSpPr/>
          <p:nvPr/>
        </p:nvSpPr>
        <p:spPr>
          <a:xfrm>
            <a:off x="45720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5"/>
          <p:cNvSpPr/>
          <p:nvPr/>
        </p:nvSpPr>
        <p:spPr>
          <a:xfrm>
            <a:off x="7858080" y="6500880"/>
            <a:ext cx="919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D9E7-D1D6-4158-8475-973A8E1DF282}" type="slidenum">
              <a:rPr b="0" lang="hr-HR" sz="1000" spc="-1" strike="noStrike">
                <a:solidFill>
                  <a:srgbClr val="00008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ZnakHR.png"/>
          <p:cNvPicPr/>
          <p:nvPr/>
        </p:nvPicPr>
        <p:blipFill>
          <a:blip r:embed="rId3"/>
          <a:stretch/>
        </p:blipFill>
        <p:spPr>
          <a:xfrm>
            <a:off x="8001000" y="285840"/>
            <a:ext cx="882720" cy="87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europa.eu/abc/symbols/emblem/images/europ_flag/jaune.jpg"/>
          <p:cNvPicPr/>
          <p:nvPr/>
        </p:nvPicPr>
        <p:blipFill>
          <a:blip r:embed="rId4"/>
          <a:stretch/>
        </p:blipFill>
        <p:spPr>
          <a:xfrm>
            <a:off x="409680" y="428760"/>
            <a:ext cx="84132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570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2987280" y="5949720"/>
            <a:ext cx="28954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9236-9264-4D44-BF08-9C4EA664678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vijet-medija.hr/" TargetMode="External"/><Relationship Id="rId2" Type="http://schemas.openxmlformats.org/officeDocument/2006/relationships/hyperlink" Target="http://www.nabava.net/" TargetMode="Externa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Uvod u proračun EU projekata </a:t>
            </a:r>
            <a:br>
              <a:rPr sz="3600"/>
            </a:br>
            <a:r>
              <a:rPr b="1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Izrada okvirnog proračuna projekta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i="1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Budget of the Action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eprihvatljivi trošk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orezi, uključujući PDV (osim ako njihov povrat nije moguć ni na koji način i ako se utvrdi da ih snosi krajnji korisni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carinske i uvozne pristojbe, ili bilo koje druge nak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kupovina, zakup ili leasing zemljišta i postojećih zgrada  (osim ako je najam ili leasing isključivo vezan uz razdoblje sufinanciranja projekta te ima prednost pred drugim rješenjima u smislu isplativosti – „best value for money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novčane kazne, financijske kazne i parnični troško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operativni troškovi (osim ako se odnose isključivo na razdoblje sufinanciranja projek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rabljena op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eprihvatljivi trošk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ankarske naknade, osim troškova povezanih s bankovnim jamstvom ili usporedivim jamstvom koje polaže korisnik nepovratnih sred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oškovi pretvaranja, naknade i gubici po tečajnim razlikama vezani uz bilo koji devizni račun u eurima kao i drugi čisto financijski izd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prinosi u na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oškovi održavanja i najma, osim ako se troškovi najma odnose isključivo na razdoblje sufinancir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oškovi amortizacije infrastruk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eprihvatljivi trošk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ugovi i troškovi dug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čuva za slučaj gubitaka ili potencijalna buduća dug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ugovane ka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škovi koje je prijavio korisnik, a koje pokriva drugi projekt ili radni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edit trećim stra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Obrazac proračuna sadrži 3 dijela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3 lista u excel-u)</a:t>
            </a: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1: detaljni proračun (po godina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2: obrazloženje svrhe troška i nač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formiranja (količina, cij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3: izvori financiranja (vlastiti izvo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bespovratna sredstva i d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Obrazac proračuna – Lis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6 glavnih kategorija troškova („budget headings”) i podkategorije (2. raz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Glavne kategorije i podkategorije se ne smiju mijenj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ve proračunske stavke moraju biti numeri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otrebno je napraviti pod-redove za svaku proračunsku stavku gdje ima više različitih nabava, np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Op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1.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Kupovina ili najam voz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2 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Namještaj, kompjutorska opr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2.1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Prijenosno račun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2.2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 Pis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.2.3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Stolno račun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ska poglavlja – Lis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844640"/>
          <a:ext cx="8351640" cy="40975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04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judski potencij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utni trošk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Oprema i potrepšt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Lokalni u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Ostali troškovi, uslu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Osta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Međusuma izravnih prihvatljivih troškova projekta (1-6) (bez porez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22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Pričuva za nepredviđene situ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Ukupni izravni prihvatljivi troškovi projekta (7+ 8) (bez porez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 Administrativni trošk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Ukupni prihvatljivi troškovi (9+10) (bez porez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Porez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Ukupni prihvatljivi/prihvaćeni</a:t>
                      </a:r>
                      <a:r>
                        <a:rPr b="1" lang="hr-HR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 projekta (11+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 - Lis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1. Ljudski potencij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.1. Plaće za RH osoblje (tehničko i administrativ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.2. Plaće za inozemno osoblje (tehn. i admin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.3. Dnevnice za putovanja (prema posebnom Pravilnik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3.1. U inozemstvo (ovisno o zemlj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3.2. Lokalno - temeljem izračuna trška smještaja + 170 kn (dnevnica po hrvatskom zako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3.3. Sudionika seminara/konferen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1773360"/>
          <a:ext cx="8351640" cy="4535280"/>
        </p:xfrm>
        <a:graphic>
          <a:graphicData uri="http://schemas.openxmlformats.org/drawingml/2006/table">
            <a:tbl>
              <a:tblPr/>
              <a:tblGrid>
                <a:gridCol w="4657680"/>
                <a:gridCol w="888840"/>
                <a:gridCol w="889200"/>
                <a:gridCol w="887400"/>
                <a:gridCol w="102852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ičina 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ena jedinice 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4272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judski potencij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Plaće (bruto plaće uključujući doprinose i ostale povezane troškove, lokalno osoblje)</a:t>
                      </a:r>
                      <a:r>
                        <a:rPr b="0" lang="hr-H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1 Tehničko osob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2 Administrativno osoblje/osoblje za potp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Plaće (bruto plaće uključujući doprinose i ostale povezane troškove, međunarodno osobl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Dnevnice za misije/putovanja</a:t>
                      </a:r>
                      <a:r>
                        <a:rPr b="0" lang="hr-H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1 U inozemstvo (osoblje dodijeljeno projekt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d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 Lokalno (osoblje dodijeljeno projekt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d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3 Sudionici seminara/konferen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d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gridSpan="5"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vi-V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suma za ljudske potencij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TextBox 1"/>
          <p:cNvSpPr/>
          <p:nvPr/>
        </p:nvSpPr>
        <p:spPr>
          <a:xfrm>
            <a:off x="468360" y="108900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 - Lis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 - Lis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im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trebno je izračunati plaću osobe angažirane na projektu jedan puta tjedno ili 8 sati mjesečno (savjetovanje) tijekom 12 mj. trajanja projek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8040" y="3481560"/>
          <a:ext cx="8209080" cy="2016000"/>
        </p:xfrm>
        <a:graphic>
          <a:graphicData uri="http://schemas.openxmlformats.org/drawingml/2006/table">
            <a:tbl>
              <a:tblPr/>
              <a:tblGrid>
                <a:gridCol w="2052720"/>
                <a:gridCol w="2052360"/>
                <a:gridCol w="2051280"/>
                <a:gridCol w="2052720"/>
              </a:tblGrid>
              <a:tr h="1326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Jedinica mjere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f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j jedinica mjer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t rate (in EU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Jedinična cijena (u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UR)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U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Trošak (u EUR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9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5"/>
          <p:cNvSpPr/>
          <p:nvPr/>
        </p:nvSpPr>
        <p:spPr>
          <a:xfrm>
            <a:off x="611280" y="5805360"/>
            <a:ext cx="59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2 mj x (4 dana / 22 dana)  = 12 mj x 0,1818 = 2,18 m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1. Ljudski potencijali – Savje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arem jedna osoba treba raditi najmanje 30% ili više radnog vremena na poslovima upravljanja projektom ili koordiniranja projektnih aktivnosti i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e pozicije treba pojedinačno navesti (grupiranje nije dozvoljen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eba voditi računa jesu li navedene plaće i obračun satnice točne te jesu li obračunati svi troškovi za predviđeno razdoblje (npr. eventualne obveze po kolektivnim ugovorima o povećanju plaća i sl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ovoj kategoriji proračuna isključivo se dopušta zapošljavanje temeljem ugovora o radu ili isplate temeljem ugovora o djel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 projekta predstavl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inancijski plan projekta (plan troškova i prihoda za vrijeme provedbe projek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strument za ocjenu (odnos troškova i učinka), praćenje i kontrol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met detaljne dorade tijekom procesa tzv. čišćenja proračuna i temelj za potpisivanje ugovora o bespovrtanim sredstvima (gran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oračun se izrađuje na temelju predloška proračuna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ji je objavljen u Pozivu na natječaj (Aneks B, tablica u excel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2. Putni troš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1. Međunarodna puto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2. Lokalna puto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zvoljena su sva prijevozna sredst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oškovi za korištenje privatnih/službenih vozila: odobrava se 0,25 EUR/km (ovaj iznos uključuje sve troškove: gorivo, cestarinu, tunelarinu, trajekt, amortizaciju vozil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42800" y="1897200"/>
          <a:ext cx="8352000" cy="1892160"/>
        </p:xfrm>
        <a:graphic>
          <a:graphicData uri="http://schemas.openxmlformats.org/drawingml/2006/table">
            <a:tbl>
              <a:tblPr/>
              <a:tblGrid>
                <a:gridCol w="4657680"/>
                <a:gridCol w="889200"/>
                <a:gridCol w="888840"/>
                <a:gridCol w="887400"/>
                <a:gridCol w="1028880"/>
              </a:tblGrid>
              <a:tr h="86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ičina 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ena jedinice 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utni troškovi</a:t>
                      </a:r>
                      <a:r>
                        <a:rPr b="1" lang="hr-H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Putovanja u inozemst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le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Lokalni prijev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 gridSpan="5">
                  <a:txBody>
                    <a:bodyPr lIns="0" rIns="0" tIns="0" bIns="0" anchor="ctr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vi-V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suma za putne trošk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1"/>
          <p:cNvSpPr/>
          <p:nvPr/>
        </p:nvSpPr>
        <p:spPr>
          <a:xfrm>
            <a:off x="468360" y="3789360"/>
            <a:ext cx="8351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Savje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ripremiti detaljne specifikacije (plan putovanja, u okviru koje aktivnosti, koliko osoba i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studijska putovanja – ukoliko se namjerava angažirati agencija, onda se agencija mora predstaviti u okviru proračunskog poglavlja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5. Drugi troškovi, uslug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0720" y="1162080"/>
            <a:ext cx="433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2. Putni troš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3. Oprema i potrepš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.1. Kupnja ili najam vozi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.2. Namještaj, računalna opr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ruga oprema ili dijelovi potrebni za provedbu projekta (odnosno ostvarenje svrhe projek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Tahoma"/>
                <a:ea typeface="Tahoma"/>
              </a:rPr>
              <a:t>Kupnja specijalizirane opreme i namještaja kao i manji zahvati u smislu adaptacije prostora, limitirani su na maksimalni iznos ukupnih dopuštenih troškova projekta (u ovom pozivu na natječaj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4076640"/>
          <a:ext cx="7848360" cy="2395440"/>
        </p:xfrm>
        <a:graphic>
          <a:graphicData uri="http://schemas.openxmlformats.org/drawingml/2006/table">
            <a:tbl>
              <a:tblPr/>
              <a:tblGrid>
                <a:gridCol w="4376520"/>
                <a:gridCol w="835200"/>
                <a:gridCol w="834840"/>
                <a:gridCol w="835200"/>
                <a:gridCol w="966600"/>
              </a:tblGrid>
              <a:tr h="77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oličina 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ijena jedinice 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oškovi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u E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Oprema i potrepštine</a:t>
                      </a:r>
                      <a:r>
                        <a:rPr b="1" lang="hr-HR" sz="14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1 Kupovina ili najam voz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 vozi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2 Namještaj, računalna opr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 ko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3 Strojevi, alati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4 Rezervni dijelovi/oprema za strojeve, a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5 Ostalo (navedi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đusuma za opremu i potrepš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3. Oprema – Savje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premiti detaljni izlist svakog komada ili seta opr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oditi računa o važnosti podrijetla opreme (cijena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ažiti ponude za opremu prilikom pripreme prijedlog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jeriti troškove dostave, montaže i edukacije prilikom puštanja opreme u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jeriti troškove održavanja, servisiranja i rezervnih dijel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4. Lokalni/projektni 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  <a:ea typeface="Tahoma"/>
              </a:rPr>
              <a:t>Ovi troškovi (troškovi službenog vozila, najam prostora, potrošni uredski materijal i dr. usluge kao npr. el. energija, telefon i sl.) odnose se isključivo na otvaranje i rad ureda radi provedbe projekta (ukoliko npr. unajmljujemo prostor u kojem će biti projektni ur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  <a:ea typeface="Tahoma"/>
              </a:rPr>
              <a:t>Ovdje ne možemo tražiti pokriće troškova postojećeg ureda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ahoma"/>
                <a:ea typeface="Tahoma"/>
              </a:rPr>
              <a:t>Različiti troškovi režija i administrativni troškovi navode se u paušalnom iznosu pod stavkom </a:t>
            </a:r>
            <a:r>
              <a:rPr b="0" i="1" lang="hr-HR" sz="2600" spc="-1" strike="noStrike">
                <a:solidFill>
                  <a:srgbClr val="000000"/>
                </a:solidFill>
                <a:latin typeface="Tahoma"/>
                <a:ea typeface="Tahoma"/>
              </a:rPr>
              <a:t>10. Administrativni troškov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5. Ostali troškovi/uslu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troškovi vezani uz konkretnu provedbu projektnih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troškovi ugovaranja usluga, organiziranja događanja i s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odkategori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1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Publik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2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Studije, istraži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3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Reviz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4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Eval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5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Prevođ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6 Financi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jske uslu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trošak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ank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ovne garancije itd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7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Troškovi konferencija/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eminar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.8. 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Tahoma"/>
              </a:rPr>
              <a:t>Aktivnosti vezane uz prepoznatljivost projekta i EU sufinanci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5. Ostali troškovi/usluge – Primj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5.7.1. Radionica o neverbalnoj komunikaci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5.7.1.1. Najam prostora za radioni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5.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7.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. Rad stru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č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njaka (2 dana pripreme, 1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radionic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, 1 dan izvješće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5.7.1.3. Preslike radnih materijala (15 stranica/primjer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5.7.1.4. Osvježenja u pauzama i ruč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i d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6. Osta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Određeni troškovi koji se ne mogu prikazati kroz druge stav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Najčešće su to troškovi za npr. građevinske radove (uređenje prostora, radionica i sl.), postavljanje određenih virtualnih mreža i s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Ukoliko neki trošak navedete pod 6., a on treba biti iskazan pod 5., zbog toga nećete biti “kažnjeni” (usmjerit će vas se da to ispravi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7. – 13. Ostale stavke prorač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STAVKA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ZNAČENJE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7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odzbroj izravnih dopuštenih troškova (1+6)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8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Nepredvidivi troškovi (max 5% od stavke 7)</a:t>
            </a:r>
            <a:r>
              <a:rPr b="1" lang="hr-HR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9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broj izravnih dopuštenih troškova (7+8)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10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Administrativni troškovi (max 7% od stavke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11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Ukupno dopušteni troškovi (9+10) bez poreza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12.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Porezi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13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Ukupno dopušteni troškovi (11+12)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hr-HR" sz="1200" spc="-1" strike="noStrike">
                <a:solidFill>
                  <a:srgbClr val="000000"/>
                </a:solidFill>
                <a:latin typeface="Tahoma"/>
                <a:ea typeface="Tahoma"/>
              </a:rPr>
              <a:t> ... treba posebno odobrenje donatora da bi se sredstva mogla troš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hr-HR" sz="1200" spc="-1" strike="noStrike">
                <a:solidFill>
                  <a:srgbClr val="000000"/>
                </a:solidFill>
                <a:latin typeface="Tahoma"/>
                <a:ea typeface="Tahoma"/>
              </a:rPr>
              <a:t> ... Samo u slučaju ako prijavitelj i/ili partneri dokažu da ne mogu „povratiti” po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treba jasno pojasniti svaki troša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lijevi stupac tablice („</a:t>
            </a:r>
            <a:r>
              <a:rPr b="0" i="1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Expenses”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) mora biti identičan istom takvom stupcu u List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srednji stupac tablice („</a:t>
            </a:r>
            <a:r>
              <a:rPr b="0" i="1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Clarification of a budget line”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) predstavlja opis troška (pojasniti potrebu svakog troška) i uvijek se treba pozvati na naziv i broj aktivnosti iz prijavnog obras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desni stupac tablice („</a:t>
            </a:r>
            <a:r>
              <a:rPr b="0" i="1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Justification of expenses/ estimation”)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 predstavlja obrazloženje formiranja cijene (formula za izračun određenog troška) i uvijek se treba pozvati na konkretne izvore cijena (npr. obračunska lista plaće, p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nuda dobavljača ili pružatelja usluge, cjenik s Interneta itd., a u slučaju većih usluga/radova/opreme sugerira se potražiti 2-3 ponu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Opća pravila o proračun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vi troškovi moraju biti prihvatlj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vi troškovi moraju biti opravd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vi troškovi se moraju odnositi na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ajviši i najniži iznos bespovratnih sredstava se mora poštiv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avila o sufinanciranju se moraju pošt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oprinosi u naravi nisu prihvatljivi troško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ložak proračuna se ne smije mijenj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2 - Opravdanje traženih troško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Primjer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ojekt traje 12 mjese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2349360"/>
          <a:ext cx="8208720" cy="3888000"/>
        </p:xfrm>
        <a:graphic>
          <a:graphicData uri="http://schemas.openxmlformats.org/drawingml/2006/table">
            <a:tbl>
              <a:tblPr/>
              <a:tblGrid>
                <a:gridCol w="2016000"/>
                <a:gridCol w="3097080"/>
                <a:gridCol w="3095640"/>
              </a:tblGrid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is troškov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ašnjenje traženih troškov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avdanje izračuna troška </a:t>
                      </a: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272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2.2 Računovođ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ojeći djelatnik partnerske organizacije koji će vršiti plaćanja i knjiženje troškova u projektu. Bit će uposlen na projektu cca 25% radnog vremena ili 3 mj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upni trošak plaće (prema obračunskoj listi plaće) iznosi 1.000 EUR/mj, a uz 25% rada na projektu, trošak plaće iznos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 EUR/mj x 12 mj x 0,25 x = 3.000 EUR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4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1 Prijenos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čuna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jenosno računalo jačih karakteristika „xyz” je potrebno za provedbu Aktivnosti: 2.3.1 Istraživanje i obrada podataka; 2.3.6 Prezentacije na tere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EUR/kom predstavlja prosječnu tržišnu cijenu prema </a:t>
                      </a:r>
                      <a:r>
                        <a:rPr b="0" lang="hr-HR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www.svijet-medija.hr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</a:t>
                      </a:r>
                      <a:r>
                        <a:rPr b="0" lang="hr-HR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www.nabava.net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Lis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tablica u kojoj se navode izvori financiranja projek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„</a:t>
            </a:r>
            <a:r>
              <a:rPr b="0" i="1" lang="en-US" sz="2200" spc="-1" strike="noStrike">
                <a:solidFill>
                  <a:srgbClr val="0033cc"/>
                </a:solidFill>
                <a:latin typeface="Tahoma"/>
                <a:ea typeface="Tahoma"/>
              </a:rPr>
              <a:t>EU/EDF  contribution sought in this application (A)</a:t>
            </a: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”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- navodi se traženi iznos bespovratnih sredstava (grant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„</a:t>
            </a: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Other contributions (Applicant, other EU Funds or EU Member States etc)”</a:t>
            </a:r>
            <a:r>
              <a:rPr b="0" i="1" lang="en-GB" sz="22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navodi s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znos sufinanciranja aplikanta i partnera (ako ih ima) i svakoga treba navesti posebno s iznosom i postotkom sufinanciranja (dodati redove ako treb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„</a:t>
            </a:r>
            <a:r>
              <a:rPr b="0" i="1" lang="en-US" sz="2200" spc="-1" strike="noStrike">
                <a:solidFill>
                  <a:srgbClr val="0033cc"/>
                </a:solidFill>
                <a:latin typeface="Tahoma"/>
                <a:ea typeface="Tahoma"/>
              </a:rPr>
              <a:t>Estimated TOTAL ELIGIBLE COSTS (B)</a:t>
            </a: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”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= ukupni prihvatljivi troškovi (iz Lista 1, red </a:t>
            </a:r>
            <a:r>
              <a:rPr b="0" i="1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„11. Total eligible costs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„</a:t>
            </a:r>
            <a:r>
              <a:rPr b="0" i="1" lang="en-US" sz="2200" spc="-1" strike="noStrike">
                <a:solidFill>
                  <a:srgbClr val="0033cc"/>
                </a:solidFill>
                <a:latin typeface="Tahoma"/>
                <a:ea typeface="Tahoma"/>
              </a:rPr>
              <a:t>EU/EDF contribution expressed as a percentage of total eligible costs 4 (A/B x 100)</a:t>
            </a:r>
            <a:r>
              <a:rPr b="0" i="1" lang="hr-HR" sz="2200" spc="-1" strike="noStrike">
                <a:solidFill>
                  <a:srgbClr val="0033cc"/>
                </a:solidFill>
                <a:latin typeface="Tahoma"/>
                <a:ea typeface="Tahoma"/>
              </a:rPr>
              <a:t>”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  <a:ea typeface="Tahoma"/>
              </a:rPr>
              <a:t>izračunati udjel (% na 2 decimalna mjesta) granta u ukupnim prihvatljivim troškov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1052640"/>
          <a:ext cx="8424720" cy="5184720"/>
        </p:xfrm>
        <a:graphic>
          <a:graphicData uri="http://schemas.openxmlformats.org/drawingml/2006/table">
            <a:tbl>
              <a:tblPr/>
              <a:tblGrid>
                <a:gridCol w="2189160"/>
                <a:gridCol w="4129200"/>
                <a:gridCol w="1036440"/>
                <a:gridCol w="1069920"/>
              </a:tblGrid>
              <a:tr h="36540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pected sources of funding &amp; summary of estimated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erce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1836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pected Contrib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/EDF  contribution sought in this applicatio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360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 contributions (Applicant, other EU Funds or EU Member States et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di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360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enue from the A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2284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 be inserted if applicable and allowed by the guidelines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-kind contrib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mated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39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mated TOTAL ELIGIBLE COSTS 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28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/EDF contribution expressed as a percentage of total eligible costs 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/B x 1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 case the Basic Act/financing agreement excludes financing of taxes and th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neficiary or (partners) can show it cannot reclaim the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mated TOTAL ACCEPTED COSTS 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019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/EDF contribution expressed as a percentage of total accepted costs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A/C x 1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ahoma"/>
                <a:ea typeface="Tahoma"/>
              </a:rPr>
              <a:t>Vjež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Još nekoliko savj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468360" y="1287360"/>
            <a:ext cx="842472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Koristite odgovarajuće mjerne jedin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Neki prijedloz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opremu– po kom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prijevod – po stranici ili kar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simultani ili konsekutivni prijevod – po sa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tiskanje/umnožavanje publikacija – po kom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reviziju, studije, dizajn i slične outpute koji imaju opipljive rezultate –  ugo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Kada niste sigurni što koristiti kao mj. Jedinicu, pokušajte predvidjeti kako će pravna ili privatna osoba od koje uzimate uslugu, robu ili radove vršiti naplatu, na temelju koje mj. jedin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Još nekoliko savj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68360" y="1287360"/>
            <a:ext cx="84247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otrebno je opravdati traženu opremu (oprema mora biti nužna za ostvarenje projek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U proračun treba uključiti trošak revizije i financijske garancije za predujam,  s obzirom na uvjete ugov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Proučiti pravila PRAG-a o sekundarnoj nabavi iz Priloga IV Ugovoru (npr. oprema mora imati Potvrdu o zemlji porijek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Što preciznije je proračun pripremljen, tim učinkovitije se odvija provedba ugovo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itan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Koraci u pripremi proraču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odjela projekta na aktivnosti za koje su potrebna financijska sred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a temelju definirane interventne logike, za svaki rezultat pripremiti popis zadat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zračunati troškove za svaku akti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razraditi strukturu izvođenja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uključiti sve potrebne troškove i izraziti ih u iznosima po stavkam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(osoblje, oprema, uredski materijal, rezerva za nepredviđene troškove, administrativni troškovi, usluge, bankovni troškovi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cjena troško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ovčani to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za podataka i izrada prorač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Koraci u pripremi proračuna - Primj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1773360"/>
          <a:ext cx="8280360" cy="4572000"/>
        </p:xfrm>
        <a:graphic>
          <a:graphicData uri="http://schemas.openxmlformats.org/drawingml/2006/table">
            <a:tbl>
              <a:tblPr/>
              <a:tblGrid>
                <a:gridCol w="1510200"/>
                <a:gridCol w="218880"/>
                <a:gridCol w="2086200"/>
                <a:gridCol w="218880"/>
                <a:gridCol w="2517480"/>
                <a:gridCol w="218880"/>
                <a:gridCol w="1509840"/>
              </a:tblGrid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ktiv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ško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računsko poglavl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91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kacija nastavnog osoblja (3 dana; 10 osoba; nerezidencijal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avači (1 inozemni,  1 lokalni), voditelj projekta, koordinator za edukaciju, materijali za edukaciju, prezentacijske oprema, kava/hrana, smještaj, prije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orari za vanjske stručnjake (dani za pripremu, dani za predavanja, dani za izvješće), plaće članova tima za provedbu projekta (zaposleni u instituciji koja provodi projekt; dio plaće), trošak jednog seta materijala x 10, prezentacijska oprema, hrana/kava x broj osoba x broj dana, cijena smještaja x broj dana x broj osoba, cijena prijevoza (autob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judski resur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utni troško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Ostali troškovi, uslu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Savje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Odredite količinu svih inputa potrebnih za provedbu svak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Odredite cijene pojedinačnih stavki na temelju istraživanja tržišta (istražite stvarne cijene svih usluga, opreme, materijala i dr. koje navodite u proraču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Kada prikupite sve podatke, možete izraditi proračun za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Budite sigurni da ste uključili sve inpute potrebne za provedbu svih aktivnosti jer eventualne dodatne troškove koji nastanu tijekom provedbe projekta pokrivaju prijavitelj i partneri, a ne ugovorno tijelo (do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Savje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Za svaku stavku proraču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moraju se navesti podaci o količini i jediničnim cijenama (jednokratne isplate nisu dozvolje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jer se ne temelje na stvarnom trošk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Cijene za pojedine stavke ne bi smjele prelaziti uobičajene tržišne cij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Tahoma"/>
              </a:rPr>
              <a:t>Količine predviđene u proračunu trebaju biti realistične i u skladu s aktivnostim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Zašto je proračun projekta važ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Proračun projekta je uz plan aktivnosti i logičku matricu najvažniji implementacijski al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Proračun se izrađuje na temelju 3 osnovna princip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Transparentnost troš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Adekvatnost troš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Točnost izrač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rada okvirnog proračuna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ihvatljivi trošk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rez na dodanu vrijednost - samo u slučaju kada prijavitelj ili partneri mogu dokazati da ne mogu povratiti PDV (vidi str. 14 Up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ezerva za nepredviđene troškove smije biti maksimalno 5% predviđenih ukupnih direktnih prihvatljivih troš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ndirektni troškovi (tj. administrativni troškovi) smiju iznositi maks. 7% ukupnih direktnih prihvatljivih troš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jelatnici državnih/javnih institucija (u ulozi prijavitelja i partnera) ne smiju ostvarivati dodatne honorare, već se njihovo sudjelovanje u projektu može samo smatrati sufinanciranjem projekta i navodi se u proraču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1:19:23Z</dcterms:created>
  <dc:creator>mtretinjak</dc:creator>
  <dc:description/>
  <dc:language>en-US</dc:language>
  <cp:lastModifiedBy>Name</cp:lastModifiedBy>
  <dcterms:modified xsi:type="dcterms:W3CDTF">2011-09-30T10:02:23Z</dcterms:modified>
  <cp:revision>374</cp:revision>
  <dc:subject/>
  <dc:title>Slide 1</dc:title>
</cp:coreProperties>
</file>